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7058-2F20-452F-8D13-19D5FDBA5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FF23-EACB-4B29-91A4-FC3155642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857-E620-4878-8C0B-6B8EA0CD6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A678-2F24-4360-B522-DE0D52419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9ADD-1F4A-4C03-8CDA-BD107FD3C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2273-D511-456F-8573-A6C213FD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944A-068C-4A44-B298-4881110A6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3ADA-FFFC-4DF3-B100-E6DA02F0C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1209-2221-4D91-ABB2-2A9D4A11A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A887-3E92-49AE-98B7-30CE47668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691-E08F-4D6B-B916-98EC3844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70B-F99B-4B44-92C1-245222B6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824-E352-45FF-9B78-8196C375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B9B-0625-4D61-B60A-C485C72C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978A-A68C-454B-BEBD-310BF3E5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18FD-8243-4EBB-8239-0991F4B7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110A-9A48-4D82-8ED8-8AA71E7D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1723-5007-4212-9AC4-F428B525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F6F1-BCCE-4714-9182-DF56CBE5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F506-515C-4880-9D4D-C3AE7E43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9EEA-CBA7-417F-B161-730CA665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80B-0553-44F6-8E62-7F247A6F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1D53-E0BF-4EC3-A962-D2F7D7C2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3ED5-A9D2-4457-9396-41E66948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36CD-AAC9-413B-B48E-895EA241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3B4A-4CEA-402A-B645-B6D7EC01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5DCF-127F-47EF-B192-7F0633BA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236-1B98-43F8-83C2-1243CCD0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C80-990C-42A1-ACEA-D68BE2CA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2DC-AF9C-43AA-BB6E-BE069765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9F4-35A4-4B14-AECF-27C49DC3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75A-D67A-4A8A-9F1A-63ED585E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A6D-A0A6-4EC7-BF32-9F0AEDA7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083-EC9B-49A7-B237-C45A7510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BDC5-2C0D-488E-BEC7-EAFE1288D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7BD3-D44F-42A2-929F-9B58ECA04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1280" y="2168640"/>
            <a:ext cx="6891480" cy="16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me of Your Count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0384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ourism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points of interest in your country that people from other countries may be interested in vis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ere (your country) is loca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which cont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 is 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and wh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ries are 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47960" y="21337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45720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79992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Geographic Features of (your country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y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vers, lakes, ocea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ain ranges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geograph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that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or nex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m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typical weather patterns in your country throughout the calenda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viro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ome of the native animals and plants that can be seen in 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stor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609480" y="2133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timeline of the important historical events of your country or provi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3249720"/>
          <a:ext cx="8713800" cy="3203640"/>
        </p:xfrm>
        <a:graphic>
          <a:graphicData uri="http://schemas.openxmlformats.org/drawingml/2006/table">
            <a:tbl>
              <a:tblPr/>
              <a:tblGrid>
                <a:gridCol w="1152360"/>
                <a:gridCol w="1025640"/>
                <a:gridCol w="1089000"/>
                <a:gridCol w="1090440"/>
                <a:gridCol w="1089000"/>
                <a:gridCol w="1089360"/>
                <a:gridCol w="1089000"/>
                <a:gridCol w="108900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th D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184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s and Tradi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important customs and traditions celebrated in your country. Include information about who celebrates and when they celeb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029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over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how laws are made and changed in your country. Tell how people are chosen to lead the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214776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ich goods and services are produced in your country. How do people typically provide for the needs of themselves and their famil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42:19Z</dcterms:created>
  <dc:creator>Connie Campbell</dc:creator>
  <dc:description/>
  <dc:language>en-US</dc:language>
  <cp:lastModifiedBy>Admin</cp:lastModifiedBy>
  <dcterms:modified xsi:type="dcterms:W3CDTF">2012-12-14T18:19:05Z</dcterms:modified>
  <cp:revision>1</cp:revision>
  <dc:subject/>
  <dc:title>Name of Your Country</dc:title>
</cp:coreProperties>
</file>